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0A9E-A8BA-4102-81FD-A7F3107B4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71D9-B0B9-4937-BF7F-4E44DA627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5F4A-1DCB-4B83-8C78-32A0DE6C4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80BA-FF58-4A41-8E3F-5F940C249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0D63D-21DD-4741-80C4-8CE355ED7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41736-D33C-419E-91ED-B362AF95D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E2FB8-F7B7-4FA1-A0DC-E347FAFDA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A26D9-8F34-45F1-9DF4-B222FFA03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0C3DE-A94C-445C-A96F-D5885AA76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FF005-F7A1-4395-ACE9-78233F13B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31DCA-B5C4-413B-8BF4-2FE8C5F77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D340-D94D-493F-A82D-B9A5F9BE5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DD4F8-5902-453E-9D9E-EA3EEAAF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E19EB-BA3C-4F88-8A7E-CCEB1110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82052-D6F3-44E8-9F90-0E1536EB5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039B4-1370-4975-8E86-6E18213DF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D32E5-5AE2-41F9-BAB7-9298AE32C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BEC2-D110-47FF-BB41-0482841B2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B4E4-3597-4F91-BDE2-13C8EBDCA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FF40-608E-4387-A4F1-4366C0727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CCBE-3844-4C81-AF81-78008C78A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3864-1BD7-43AB-87D5-5EE7071D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5EC5-5461-4596-9FBF-062F1768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99F4-C9DD-4E67-8404-6FB42656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1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43040" indent="-285840">
              <a:spcBef>
                <a:spcPts val="799"/>
              </a:spcBef>
              <a:buClr>
                <a:srgbClr val="996600"/>
              </a:buClr>
              <a:buSzPct val="7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1143000" indent="-228600">
              <a:spcBef>
                <a:spcPts val="799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600200" indent="-228600">
              <a:spcBef>
                <a:spcPts val="7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770B4-86CA-4203-891D-B8566C1003EC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53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7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336F9-C4AF-4BAE-91F5-62571337B83A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Microsoft PowerPoint 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テスト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これは 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MS PowerPoint 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ファイルです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1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2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2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5T10:41:34Z</dcterms:created>
  <dc:creator>著者</dc:creator>
  <dc:description/>
  <dc:language>en-US</dc:language>
  <cp:lastModifiedBy>NaCl</cp:lastModifiedBy>
  <dcterms:modified xsi:type="dcterms:W3CDTF">2005-07-08T02:25:04Z</dcterms:modified>
  <cp:revision>3</cp:revision>
  <dc:subject/>
  <dc:title>タイトル</dc:title>
</cp:coreProperties>
</file>